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952-43FB-45F3-93A7-61C4EDA5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B56-39D3-42A8-A1F5-8B9450EA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38B-4FA7-45C5-B560-BAA4F14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9C5-B876-444D-A5F7-B1C9EBD9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BD7-8ACD-4D7E-BEA9-8C6A190E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1B26-5DE1-4FF5-91B7-4B7C2DC8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D082-8198-45EF-9E11-5090FD8E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CDF0-ECC3-4FEF-960B-3EA47E15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4929-CB25-4DB0-8F1D-C6DCDCD9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86D0-B439-4E6F-BAB6-9C9368C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5CB2-0AA6-4F8D-9CAE-8C7D948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8C7-DA6E-4C1F-BFF5-D7E3E8F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4C88-4172-4581-ABBA-DC4E37F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730-EBF4-4C28-A470-43FC111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22CE-ADED-49A2-B994-5046C57E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5F19-C456-405B-A54B-CA7E50BB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0E3-3808-44E3-B817-9E75A9DB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3211-D3AA-4A1C-9A86-DD264C8E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D29B-8459-4EC0-A0CA-F02C6D6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02D8-C315-412C-AE87-150EACC5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DA39-A349-48B1-9AC7-E9FDA9C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A805-9B5F-4955-A897-DB9E66BF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365-9657-4551-AB8E-4FF624A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3A85-8822-42E4-8815-9A2317D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1896-D2E5-4415-94E9-6BC219CB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EB4B-6FCA-4598-8964-B2C1F32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9528-654A-45DA-BBA5-34E46F2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4D1E-E86C-4D79-A829-8830D6E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AF88-478F-483B-8ABD-7A5E2921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3B4D-0BE1-410C-B631-5AC8BCC4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DDFB-920D-410C-B114-BF8EC94C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913A-5DF4-46C5-8493-8CD514B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5934-F936-49E1-BEEF-E1C85300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E1B-EFE4-4628-B71F-53BE9E3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BB6A-8B80-4895-84CF-DC70199C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2360-FAAF-420C-9839-FFC8694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28AD-FF00-4E9F-8DC0-8FBB59C6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0A5C-BCD4-4055-8375-F266B83D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2487-1100-48A4-818E-B261442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3855-4B94-484D-BE45-CDFE2B0A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7ACC-3D4E-468C-B61E-50A3B615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ABCD-8611-4DDA-8F93-12A431CE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79D7-E04C-407A-9C29-7D47584E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168A-548B-4C4F-8875-4755E0B3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6EC-7F4C-45A1-929F-E0D11D6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B0A2-3E72-4BB6-A901-5C8F7DD1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676E-1CA8-40C4-B0F9-D13690F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4E3A-EAFF-4882-9904-11C80CBB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D97E-5D53-4A83-BD59-636EBF42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F867-A862-492B-BFAE-B55F2456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9287-3783-4BCF-997D-2382E7A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FAFD-4EBB-40C9-B729-74B97EE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C2F37-F862-40D3-AFEA-52E77EE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9508-98AA-427B-9D13-75DA0577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EDEC4-190D-4C29-8996-D5929228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3E7-BE96-4537-8154-ECBD473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893A-0623-4BB5-B76A-99E3B847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80F67-7192-40CC-9AE6-7279D5F5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90874-2301-4D6E-BCB7-E663D86F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5F7A-A1DD-48D7-A662-E71C5A3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1135-E3E4-4C51-B8BC-B14BA662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1053-F088-4542-BB9B-E22700E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4A8D8-6D86-4F73-87CA-9C1E2FF8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F93EC-4A17-40CE-AD74-E6CCE96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0A0E-8415-41C4-81CA-72F8693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C2FC-44EB-418C-881C-6A9AB8E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48B-6C0C-4089-93B9-7577D02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C119-1CA7-4435-8A43-EADF0D13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BE0D-3662-4DB9-8E8C-FD44C033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5668-A7C8-4A3A-83C1-7736DC07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E78-858C-4C2F-9D60-219FD8B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A10-79F6-4155-BA0D-AFB998D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39EC-BB99-4D47-A955-A58D5954EDA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52B2-8262-431F-BA15-1AEDE0EB7CF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5F0-20C5-43AB-A8AE-30353BCC528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65A-0AC5-4399-97F0-ACAEAE56135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0811-50B8-4F55-9638-75F6252E391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782-F4FA-481C-922C-8574E30CA3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011320" y="1542960"/>
            <a:ext cx="5505480" cy="981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37920" y="3504960"/>
            <a:ext cx="22892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elyn Boula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http://kids.niehs.nih.gov/images/comments/eyeflash.gif"/>
          <p:cNvPicPr/>
          <p:nvPr/>
        </p:nvPicPr>
        <p:blipFill>
          <a:blip r:embed="rId2"/>
          <a:stretch/>
        </p:blipFill>
        <p:spPr>
          <a:xfrm>
            <a:off x="228600" y="1752480"/>
            <a:ext cx="2048040" cy="204804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5" descr=""/>
          <p:cNvPicPr/>
          <p:nvPr/>
        </p:nvPicPr>
        <p:blipFill>
          <a:blip r:embed="rId3"/>
          <a:stretch/>
        </p:blipFill>
        <p:spPr>
          <a:xfrm>
            <a:off x="2206800" y="2419200"/>
            <a:ext cx="544968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itle 1"/>
          <p:cNvGrpSpPr/>
          <p:nvPr/>
        </p:nvGrpSpPr>
        <p:grpSpPr>
          <a:xfrm>
            <a:off x="360360" y="176040"/>
            <a:ext cx="7650000" cy="1335240"/>
            <a:chOff x="360360" y="176040"/>
            <a:chExt cx="7650000" cy="1335240"/>
          </a:xfrm>
        </p:grpSpPr>
        <p:pic>
          <p:nvPicPr>
            <p:cNvPr id="259" name="Title 1" descr=""/>
            <p:cNvPicPr/>
            <p:nvPr/>
          </p:nvPicPr>
          <p:blipFill>
            <a:blip r:embed="rId1"/>
            <a:stretch/>
          </p:blipFill>
          <p:spPr>
            <a:xfrm>
              <a:off x="360360" y="176040"/>
              <a:ext cx="7650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ffffff"/>
                  </a:solidFill>
                  <a:latin typeface="Franklin Gothic Book"/>
                </a:rPr>
                <a:t>What Facebook has to say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recommendations from the Facebook websi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ldren under 13 are not allowed on Facebook children over 13 should be monit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ebook can’t guarantee that the site is free of inappropriate mater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you find inappropriate material please report it so that something can be d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5943600" y="5678640"/>
            <a:ext cx="2914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Title 1"/>
          <p:cNvGrpSpPr/>
          <p:nvPr/>
        </p:nvGrpSpPr>
        <p:grpSpPr>
          <a:xfrm>
            <a:off x="360360" y="176040"/>
            <a:ext cx="7650000" cy="1335240"/>
            <a:chOff x="360360" y="176040"/>
            <a:chExt cx="7650000" cy="1335240"/>
          </a:xfrm>
        </p:grpSpPr>
        <p:pic>
          <p:nvPicPr>
            <p:cNvPr id="264" name="Title 1" descr=""/>
            <p:cNvPicPr/>
            <p:nvPr/>
          </p:nvPicPr>
          <p:blipFill>
            <a:blip r:embed="rId1"/>
            <a:stretch/>
          </p:blipFill>
          <p:spPr>
            <a:xfrm>
              <a:off x="360360" y="176040"/>
              <a:ext cx="7650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Franklin Gothic Book"/>
                </a:rPr>
                <a:t>Some safety tips from the Facebook site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456840" y="16002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share your password with any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your privacy settings, and review them of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autious about posting and sharing personal information, especially information that could be used to identify you or locate you offline, such as your address or telephone numb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users and content that violate our Terms of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k and report anyone that sends you unwanted or inappropriate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Rectangle 3" descr=""/>
          <p:cNvPicPr/>
          <p:nvPr/>
        </p:nvPicPr>
        <p:blipFill>
          <a:blip r:embed="rId2"/>
          <a:stretch/>
        </p:blipFill>
        <p:spPr>
          <a:xfrm>
            <a:off x="6681960" y="3876840"/>
            <a:ext cx="2468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itle 1"/>
          <p:cNvGrpSpPr/>
          <p:nvPr/>
        </p:nvGrpSpPr>
        <p:grpSpPr>
          <a:xfrm>
            <a:off x="360360" y="176040"/>
            <a:ext cx="7650000" cy="1335240"/>
            <a:chOff x="360360" y="176040"/>
            <a:chExt cx="7650000" cy="1335240"/>
          </a:xfrm>
        </p:grpSpPr>
        <p:pic>
          <p:nvPicPr>
            <p:cNvPr id="269" name="Title 1" descr=""/>
            <p:cNvPicPr/>
            <p:nvPr/>
          </p:nvPicPr>
          <p:blipFill>
            <a:blip r:embed="rId1"/>
            <a:stretch/>
          </p:blipFill>
          <p:spPr>
            <a:xfrm>
              <a:off x="360360" y="176040"/>
              <a:ext cx="7650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40:36Z</dcterms:created>
  <dc:creator>Longlac Public Library</dc:creator>
  <dc:description/>
  <dc:language>en-US</dc:language>
  <cp:lastModifiedBy>Karena</cp:lastModifiedBy>
  <dcterms:modified xsi:type="dcterms:W3CDTF">2009-02-07T22:12:19Z</dcterms:modified>
  <cp:revision>11</cp:revision>
  <dc:subject/>
  <dc:title>Slide 1</dc:title>
</cp:coreProperties>
</file>